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D12-4887-46E6-8317-C6B64994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CB5-B9DE-4813-A6DB-8B1E8FA6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1E2-DE3C-4BC4-B8ED-CAFB090A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086-0A8A-42F0-BE2B-F087D0F0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64B-3B09-4F35-BD44-D701587C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89A-6ED8-479C-A214-811941DD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BE8-51FA-44DE-9EB4-12A58919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EC5-3649-40E2-BF1D-33061246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4E9-023A-4413-A1AC-A3FF679D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C9D-9B45-40E4-80AF-D39B718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256-6FC8-4142-A711-93CECD1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831-51AA-44D9-853C-BC6024A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57C3-9AD8-44F1-AF57-3A5742F874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Participation in IHO Reg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esentation to PAP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3 Ma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Maritime Data Structure is a top-level requirement for e-navi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HO has established a GI Registry, governed by S-100 &amp;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MO NAV 57 agreed on IHO Registry as baseline for the collection, exchange, and distribution o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Council 52 approved registration of IALA at IHO as a Submitting Organization &amp; domain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operational procedures in Guideline conform to IHO standard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IHO Reg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97000" y="1357200"/>
            <a:ext cx="65898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Process in I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-100 flowchart"/>
          <p:cNvPicPr/>
          <p:nvPr/>
        </p:nvPicPr>
        <p:blipFill>
          <a:blip r:embed="rId1"/>
          <a:stretch/>
        </p:blipFill>
        <p:spPr>
          <a:xfrm>
            <a:off x="1714680" y="1285920"/>
            <a:ext cx="5643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IALA Organizational Cha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cintosh HD:Users:Mike:Documents:A_Work:IALA:Committees:e-NAV Committee:e-NAV11 Mar12:Report inputs:IALA Org chart.jpg"/>
          <p:cNvPicPr/>
          <p:nvPr/>
        </p:nvPicPr>
        <p:blipFill>
          <a:blip r:embed="rId1"/>
          <a:stretch/>
        </p:blipFill>
        <p:spPr>
          <a:xfrm>
            <a:off x="777960" y="1000080"/>
            <a:ext cx="7588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elds: AtoNs, VTS, AIS, Risk Analysis, WWR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VEF – Technical WG in VTS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N Information – e-NAV lead, ANM &amp; EEP provide input (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S – applications to b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 Analysis – IWR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RN – applications to be identif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HO Registry is the baseline for CM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-100 gives a framework for data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accommodate IALA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impact on IALA,  but also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7:06:38Z</dcterms:created>
  <dc:creator>Nick Ward</dc:creator>
  <dc:description/>
  <dc:language>en-US</dc:language>
  <cp:lastModifiedBy>Nick Ward</cp:lastModifiedBy>
  <dcterms:modified xsi:type="dcterms:W3CDTF">2012-05-03T05:31:05Z</dcterms:modified>
  <cp:revision>5</cp:revision>
  <dc:subject/>
  <dc:title>IALA Participation in IHO Registry</dc:title>
</cp:coreProperties>
</file>